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6B9-48D4-43C1-9DA7-CD87AEB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7F2-E08B-4E22-AA48-654FAC5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FFB-736A-4879-9F8C-513B931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AD0-6474-4993-82C1-CEE33210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533-A357-4D68-A527-14EE141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49C-D181-4FBE-866C-56A5375F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2EB-825D-49C1-A0E3-62BBE78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75E-7926-49ED-AB2E-1C9D955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A17-A92D-48AD-B960-275B56D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2B2-575A-4E3C-8F08-DBB71A46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DBE-F4DD-43F5-AF06-CCCF2A4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7CE-A2C6-49B0-97A7-0E39BFA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B882-3C88-432C-AC3A-8E7E32213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2. Элементы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3. Классификация проек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4. Содержание и процессы управления проек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МА 1. ТЕОРЕТИЧЕСКИЕ ОСНОВ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ая деятельность, состоящая в целенаправленном построении в идеальной форме какого-либо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ъект проектир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носители управленческой деятельности — как отдельные личности, так и организации, коллективы, социальные институты, ставящие своей целью преобразование действи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2. Элемен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ы проектир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ы материальной прир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териальные (невещные) свойства и 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2. Элемен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оектир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определенного будущего состояния системы, процессов, отнош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2. Элемен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 проек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окупность приемов и операций для достижения ц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2. Элемен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проек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и и способы достижения целей и решения зада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2. Элементы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масштаб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кропроек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ый проек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ий проек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га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лож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 слож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ически слож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сурсно слож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ексно слож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рокам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сроч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госро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ребованиям к качеству и способам его обеспеч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дефект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уль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ый подх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— временное предприятие для создания уникальных продуктов, услуг или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уровню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народ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чествен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характеру проектируемых измен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иваю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99680" y="14288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ферам и направлениям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оительны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жениринговы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ы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ий (маркетинговый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иче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ико-экономиче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алтинговы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-техниче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че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целевым установк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иж-прое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ы влия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собенностям финанс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вестицион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нсо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еди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юдже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твори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затрачиваемым ресурсам и получаемой прибы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рче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евдо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ы-фи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зи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3. Классифика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9680" y="1571400"/>
            <a:ext cx="8001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проект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, искусство организации, планирования, руководства, координации трудовых, финансовых, материально-технических ресурсов на протяжении всего проектного цикла, направленное на достижение его целей путем применения современных методов, техники и технологии управления для получения определенных в проекте результатов по составу и объему работ, стоимости, времени, качеству и удовлетворению участников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9680" y="1285560"/>
            <a:ext cx="8001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и управления проектом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 цели проекта и провести его обосновани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вить структуру проекта (подцели, основные этапы работ, которые предстоит выполнить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 необходимый объем и источники финансирова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обрать исполнителей и сформировать команду проектант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ить и заключить контракт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 сроки выполнения проекта, составить график его реализаци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читать необходимые ресурс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читать смету и бюджет проек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ировать и учитывать риск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ить контроль за ходом выполнения проекта и многое друго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управления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держание управления проек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роцесс управления проек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характеристики проект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ов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ная локализ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8001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управления проект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замыслом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интеграцией (содержанием)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времен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финансами (стоимостью)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качеств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команд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коммуникациями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рис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е обеспечением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5840" y="1333440"/>
          <a:ext cx="8572320" cy="5199120"/>
        </p:xfrm>
        <a:graphic>
          <a:graphicData uri="http://schemas.openxmlformats.org/drawingml/2006/table">
            <a:tbl>
              <a:tblPr/>
              <a:tblGrid>
                <a:gridCol w="3473280"/>
                <a:gridCol w="5099040"/>
              </a:tblGrid>
              <a:tr h="24444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менедж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-менедж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исполнение ряда стабильных фун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уникальную, четко поставленную и подробно описанную цель в каждом проек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 постоянно действующим подразде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 проектом, существование которого ограничено во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ет относительно стабильным коллективом сотруд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ет временной командой, состав которой может меняться в ходе осуществления проекта, участники могут иметь двойное подчинение: менеджеру проекта и своему функциональному руководит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в подчинении группа специалистов одной или смежных специаль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в подчинении команда разнопрофильных 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ирается в предметной области лучше своих подчин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не быть специалистом в предметной област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ьно занимает свою дол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кончании каждого проекта может оказываться «временно безработны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ится сделать «вертикальную» карьеру, занимая все более высокие посты в своей функциональной сф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ьера в основном «горизонтальная», рост состоит в управлении все более сложными, масштабными проек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 мотивации — стабильный фиксированный ок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мотивация — бонус, зависящий от результата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4. Содержание и процес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ы общего менедж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менеджме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персонал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онный (производственный) менедж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ги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жиниринг и управление каче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14240" y="2071800"/>
            <a:ext cx="77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1. Команда проекта и форматы коллективного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2. Примерная структура команды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МА 2. МЕТАФОРА КОМАН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1. Команда проекта и форматы коллективного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я создания настоящей коман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лифицированные люди, чьи профессиональные качества и умения дополняют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чтобы перед командой стояли цели, которые принимаются всеми сотрудниками и согласуются с их личными ц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ьная мотивация к успе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1. Команда проекта и форматы коллективного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анд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а единомышленников, решающих общую уникальную задачу, обладающих взаимодополняющими навыками и качествами, формулируют единую стратегию работы над проектом и несут общую ответств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1. Команда проекта и форматы коллективного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5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7715160" cy="4357440"/>
          </a:xfrm>
          <a:prstGeom prst="rect">
            <a:avLst/>
          </a:prstGeom>
          <a:ln w="0">
            <a:noFill/>
          </a:ln>
        </p:spPr>
      </p:pic>
      <p:sp>
        <p:nvSpPr>
          <p:cNvPr id="114" name="Содержимое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ты коллекти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5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8358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-менедж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ь или управляющий, занимающий постоянную должность в команде проекта и наделенный полномочиями в области принятия решений по конкретным видам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менеджеру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рганизация команд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ланирование деятельности команд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Управление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хема измерения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571840" y="2428920"/>
            <a:ext cx="4214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5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618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инженеру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т техническую целостность проект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т процессы проектир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т соответствие затрат, средств, ресурсов и времени на всех стадиях проекта запроектированным показа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менеджеру по коммуникац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за целесообразное и эффективное осуществление взаимодействия членов команды проекта в процессе рабо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за информационные систе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ет и поддерживает работу виртуального офиса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менеджеру по финан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яет контроль движения денежных поток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яет организацию бухгалтерского у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яет  бюджетирование проект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яет  оценку стоимостных показателей выполнения работ,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яет управление стоим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5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286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2. Примерная структура команд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8760" y="1428840"/>
          <a:ext cx="8358120" cy="5283000"/>
        </p:xfrm>
        <a:graphic>
          <a:graphicData uri="http://schemas.openxmlformats.org/drawingml/2006/table">
            <a:tbl>
              <a:tblPr/>
              <a:tblGrid>
                <a:gridCol w="396720"/>
                <a:gridCol w="1960560"/>
                <a:gridCol w="6000840"/>
              </a:tblGrid>
              <a:tr h="66204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азвание р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ординато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ует действия, мнения и точки зрения членов команды, учитывает любые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тивато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ждает команду к действию, к движению впе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енератор идей» («Креативщик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новые способы решения проблем, новые подходы, 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итик» («Аналитик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результаты и процесс работы, предлагает новые идеи, способ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полнител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т поставленную перед ним задачу в точном объеме и в указанные 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уша команды» («Эмоциональный лидер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благоприятную рабочую обстановку, климат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следователь ресурс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ет варианты, ресурсы и средства достижения целей во внешней сре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инишер» («Доводчик идей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тается довести до совершенства результаты работы, прорабатывает все детали, доводит дело до кон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1. Технологии сетевого планирования 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2. Задачи, решаемые пакетами управления проек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МА 3. ИНФОРМАЦИОННЫЕ ТЕХНОЛОГИИ В ПРОЕ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рамма Гант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ный график, задающий сроки начала и окончания взаимосвязанных действий, образующих единый технологический процесс, который необходимо выполнить для достижения цел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1. Технологии сетевого планирования и 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недостат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а диаграмм Гантт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сть формализации процедур их (диаграмм) анализ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возможности установления зависимостей между различными действ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1. Технологии сетевого планирования и 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оинства метода диаграмм Гантт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1. Технологии сетевого планирования и 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ятельностн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– деятельность субъекта по переводу объекта из наличного состояния в состояние желаемого будущего, которое наиболее полно отвечает его представлени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ые методы планир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метод критического пути (Critical Path Method ― СРМ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 анализа и оценки програ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odram Evalution and Review Techique ― PER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1. Технологии сетевого планирования и 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кеты управления проектами предназначены дл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планирования проек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ение расписания выполнения раб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значение ресурсов на выполнение работ прое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е необходимых затрат и их распределения во врем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контроля выполн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торное выполнение субпроцессов планирования на основании информации о ходе выполнения прое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2. Задачи, решаемые пакетами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мощных систе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е количество планируемых за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поддерживать несколько уровней детализации описания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ложных методов оптимизации расписания задач прое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ложных методов распределения нескольких различных видов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2. Задачи, решаемые пакетами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ы мощных сист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emis Projec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i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vera Project Plann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Pla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Manager Workb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2. Задачи, решаемые пакетами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среднего кла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ime-Line фирмы Syman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Microsoft Project фирмы Microso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2. Задачи, решаемые пакетами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ительное программное обеспечение позволяе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Добавить или улучшить отдельные функции управления проектами, например, анализ рисков, учет рабочего времени исполнителей, расчет расписания при ограниченных ресурс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Интегрировать системы управления проектами в корпоративные управленческие сист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Настроить универсальное программное обеспечение на специфику управления проектами в конкретной предметной обла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2. Задачи, решаемые пакетами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14240" y="171468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1. Подготовка мультимедийной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2. Работа над текстом вы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3. Схема речи на презентации или защите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1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МА 4. ПРЕЗЕНТАЦ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 ЗАЩИТА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ктурные составляющие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ни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евая групп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тнер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даемые результат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ендарный пла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юджет прое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ки и мероприятия по их сниже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спективы развития прое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1. Подготовка мультимедийной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шибки, затрудняющие восприятие слушателе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ыбор светлого шрифта на темном фон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илие текста в слайдах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ыбор мелкого размера шрифт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текста курсив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резмерное увлечение цветовыми и анимационными эффектам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сутствие связи рисунков к текстам с их смысловой нагрузкой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1. Подготовка мультимедийной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15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ающий не должен читать текст презентации слово в слов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1. Подготовка мультимедийной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ятельностн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– деятельность субъекта по переводу объекта из наличного состояния в состояние желаемого будущего, которое наиболее полно отвечает его представлени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15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публичного выступ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крат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последова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целенаправл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уси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результа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2. Работа над текстом вы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00040" y="1856880"/>
            <a:ext cx="8215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публичного выступ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уп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2. Работа над текстом вы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00040" y="1643040"/>
            <a:ext cx="82152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ы изложения тем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тупенчат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онцентриче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пира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Хронологиче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Логиче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Дедуктив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Индуктив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 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 Анализ пробл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2. Работа над текстом вы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2. Работа над текстом вы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71680" y="2857680"/>
          <a:ext cx="8072280" cy="3414600"/>
        </p:xfrm>
        <a:graphic>
          <a:graphicData uri="http://schemas.openxmlformats.org/drawingml/2006/table">
            <a:tbl>
              <a:tblPr/>
              <a:tblGrid>
                <a:gridCol w="1812600"/>
                <a:gridCol w="3926160"/>
                <a:gridCol w="2333520"/>
              </a:tblGrid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клю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е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лишком затяну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подчинено главной ид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последовательно, неинтересно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пользуется всего один- два приема изложе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териал композиционно несоразмере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сутствуе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атор никак не может остановить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Прямоугольник 5"/>
          <p:cNvSpPr/>
          <p:nvPr/>
        </p:nvSpPr>
        <p:spPr>
          <a:xfrm>
            <a:off x="285840" y="1571760"/>
            <a:ext cx="85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ространенные композицион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шибки выступ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Описать проблемную ситуацию в общих черт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Кратко изложить историю вопроса, позволяющую понять причину возникновения проблем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Выделить основные противоречия проблемной ситуации, показать, как можно их разрешить и сформулировать цель проек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 Дать описание объекта  и предмета исследовани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Описать идею проект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 Аргументировать и обосновать механизмы реализации проектной иде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Сообщить, кто и как будет реализовывать проект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8. Ознакомить слушателей с положительными изменения в результате реализации проект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9. Назвать возможные препятствия (риски) и внести предложения как их можно избежать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0. Обосновать необходимость ресурсного обеспечени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1. Перечислить положительные изменения в результате улучшени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2. Охарактеризовать ведущие тенденции и перспективы развития проекта или разрешения проблем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3. Познакомить с авторами (разработчиками проекта)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3. Схема речи на презентаци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ли защите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блемное изложен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отиворечие между известным и неизвестным (наиболее общее представление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отиворечие между разными мнениями по поводу одного и того же явления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отиворечие между различными научными теориям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отиворечие между устоявшимися житейскими представлениями и новыми фактам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отиворечие между наблюдаемыми явлениями и существующими теоретическими представлениями и д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3. Схема речи на презентаци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ли защите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501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проблемного изложения материал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ыступающий знакомит слушателей с ситуацией и задает проблемный вопро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Констатация известного плюс познавательное противореч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Неизвестное в форме вопросов, которые вытекают из ситуации противореч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Условия разрешения пробл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Используя методы проектирования, находят возможные варианты решения пробл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70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3. Схема речи на презентаци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ли защите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715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5. Разработка и управление институциональными подсистемам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временем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стоимостью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качеством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командой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коммуникациям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рискам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6. История и тенденции развития в управлении проек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проектами за рубеж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проектами в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проектами в современной эконом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7. Заключительные положения управления проектами. Эффективность управления проек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самостоятельное из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715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лючительные положения управления проек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тория и тенденции развития в управлении проек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ификация проек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анда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ие проекта, его основные характеристики и измер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командные ро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мультимедийной презен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и назначение информационных технологий в проек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рная структура команды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граммные средства для управления проек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дура презентации и защиты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 над текстом выступ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личные аспекты информационных технолог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местимость информационных технологий в проек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ние и процессы управления проект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хема речи на презентации или защите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ы к зач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7152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временем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качеством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командой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коммуникация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проектами в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проектами в современной экономи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проектами за рубеж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риска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стоимостью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 создания коман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ты коллективного 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ональные возможности и критерии выбора программных сред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стика состояния рынка программных продуктов по управлению проект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проект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сть команды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buClr>
                <a:srgbClr val="000000"/>
              </a:buClr>
              <a:buFont typeface="Calibri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сть управления проек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просы к зач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здания прототипа, прообраза предполагаемого или возможного объекта или состоя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предвидения, предположительная оценка будущего состояния объекта, условий его возникнов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ое и практическое обоснование определения целей, выявление задач, сроков, темпов, пропорций развития того или иного явления, его реализа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928520" y="214200"/>
            <a:ext cx="6429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5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1. Определение проекта. Его основные характеристики и измер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1T05:03:01Z</dcterms:created>
  <dc:creator>User_2</dc:creator>
  <dc:description/>
  <dc:language>en-US</dc:language>
  <cp:lastModifiedBy>Александр</cp:lastModifiedBy>
  <dcterms:modified xsi:type="dcterms:W3CDTF">2022-11-22T21:05:40Z</dcterms:modified>
  <cp:revision>44</cp:revision>
  <dc:subject/>
  <dc:title>Слайд 1</dc:title>
</cp:coreProperties>
</file>